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515362"/>
        <c:axId val="61504076"/>
      </c:barChart>
      <c:catAx>
        <c:axId val="765153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504076"/>
        <c:crosses val="autoZero"/>
        <c:auto val="1"/>
        <c:lblAlgn val="ctr"/>
        <c:lblOffset val="100"/>
        <c:noMultiLvlLbl val="0"/>
      </c:catAx>
      <c:valAx>
        <c:axId val="615040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153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971B-77E7-4487-9F53-58DFE840C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9D35-3E7E-4293-9D68-A89B0A9C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1ADA-9168-4B60-B82D-A629031C7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43B5-FBD3-4E7E-B2E5-6927F7266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0D6A-CE99-4536-B817-BEE105D3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5E1A-A813-48B8-8EF3-2E890763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1A41-4BD1-4611-AA90-16D23FCE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16DD-5170-41CB-A869-43782ADA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9ADE-7473-4DE2-B57F-EA98A4FD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79FE-E712-4300-8520-51DD2078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1E71-FCF8-40D3-8A8B-7F377263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EF18-C488-4694-A643-D7C99F00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51AF8-04F2-4C5B-A0EC-34625FA5B1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